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EF1E-A0C4-4131-A492-F9BA8311F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A0D9-8F0D-4A10-BBC3-500EFB24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E5D0-26F9-445A-A342-470C2A300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D19E-CF14-4E82-9527-FB80BE751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A28D-431A-429D-833C-F4B0499A2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E71C-F855-4015-92FD-3381F908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9049-0C44-45CE-8583-F1D91EC6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7ADC-9DB5-4764-B59C-E265AAEC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8B59-D18F-45B1-8B14-76C234C2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2833-3A48-4277-9365-637EAC2F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5B8C-0221-45C9-B667-83C0F027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A3DC-A477-4FBA-80F4-189BE4CC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B1D2-1146-444B-9D94-177F4D10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4315-195F-4C6A-815C-1C07FED0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635F-5220-4171-B2AE-AC9ADEFE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6B67-9319-4B09-A4D6-5BD256556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1596-5A81-4FD5-824D-1B4E86054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2D706-B329-441A-98C1-EBA7AF5E5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E5624-0DB0-46EF-9BCD-6B6E6EE6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0E888-B093-49FF-A952-0B561DFF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9EFFB-79F5-46B7-9B6D-27E8E607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52280-B18C-4EB7-9479-1357F5D1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9069-CB6F-4253-B653-91C87331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19AD8-F7B6-49FB-BA05-076DF71B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7141D-2C10-4730-88B5-58A7DD98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F59E7-6B58-4397-ACFE-F53E991B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DAD49-D985-459F-A946-F1DF675C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E2F59-0E18-4DA3-BCAB-55284002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633AB-BC90-41E8-9A63-DAAF62A81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CD46B-B9AD-41D2-AF0A-53F178D03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41F07-B372-44F3-9BBB-7E4922AF6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4AB4B-5001-475D-9069-6FD68613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1CC24-E506-408C-86AC-009E013E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97A0-FC0E-4657-88BD-367EE058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0D853-8555-48EA-A46D-99756425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DD70D-6F38-4091-836B-F5B0567D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2333F-3D6D-4A5A-A0EC-E484B5C8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B2C41-539E-446B-8E2C-90CA19B5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7D4D2-EBE1-4B8F-A63E-6162D63C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FDF50-04D3-4957-A047-B66ACD09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EBCBD-1858-44D8-8167-BC4F45D4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F7336-A6D9-4DC1-AE18-84488CF00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1415F-09F8-4DD6-82E0-EE15F1AC2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666D0-BFE5-4219-9A4B-3C51B39B1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48D6-1B03-47EE-AAA9-D1697536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B0547-8609-4DA7-AB64-58489B28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9069C-0D42-4B38-A2A7-060B40AE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8D5AE-1D06-438F-A617-E7CBD0AD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E8EC4-C740-4A9C-B0B6-C8181D8D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BF0F8-2079-456A-89DB-605958AD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C8ACF-C955-4123-BA21-4A732C86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A9349-2B46-4488-B544-EB55C385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31E34-98BA-45CD-A0CD-9D9351D7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B1AE3-ED58-4928-83C2-2D60DCFF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114D7-43B7-4D74-AFBC-CEB3F6EB5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1344-3C66-4FDF-BF45-A650676D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DD3E7-089E-41DC-8426-7FBC92B05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E213F-074D-4486-9994-8599AD6FF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D4E2C-22D1-4D48-AB1D-01A6E08A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EA88E-408E-45E3-8AC4-FFE65368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4499C-97E6-4660-A415-F0D2305D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67E69-DC7E-45BF-8B11-F4CD52F9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2F400-5BAC-46A4-AC99-856D85F0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A7D0C-6380-4087-9DF2-3198020B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077B4-7D8A-479F-AF41-C8CADA1A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C2924-529A-48FE-8069-282512A1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E1EF-5432-4493-9FE1-CA0CDA99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779FE-DB5B-4658-A8F2-EE104751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8867D-2681-42E0-8CB7-87887245D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C8ACE-AA65-4647-ACA0-E2C7E4BFA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9C278-7BEE-4173-B573-CE7FE7A1C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30AA1-858C-4FF2-A9B3-DD56E7E5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1297C-001C-43BE-B6CC-3A6CD3CF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6A856-BA3A-4901-A889-3C8385E6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FED3A-6C9E-42DB-BAC4-70F0922B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C925A-530C-4C1F-A1F0-1D6D9DB5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4B162-39DB-4F52-9516-4A0EF9B5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F2BB-7EF8-446D-BC85-ADF3EEA4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10342-4FC8-4EB2-9432-9A23463E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0D768-2049-4752-800C-C6D26044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1E754-1B6A-4D3D-8E3C-C66FF91E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97BBD-F6E4-4763-9A06-AB3953758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B8E6E-9D93-459D-B3ED-6E5FBF94B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0225-C3F9-45E7-BC20-303C193F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BB83-FEA0-4913-A9A5-BE63E163D9A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D523-21DB-47A9-B2D9-9A1B2AFA9C7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AC5E-4901-4909-96E1-DAB6575D3A4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81CE-D48C-42B6-851A-620C221303E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6DCD-C0D5-40EF-9678-50542B95181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A0EF-0F35-412A-B795-C1DB1EE7966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A2A8-E112-417D-8106-3A8918D99E8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228600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72314"/>
                </a:solidFill>
                <a:latin typeface="Gill Sans MT"/>
              </a:rPr>
              <a:t>MCPS K-12 School Counseling Program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at we are working on now…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9047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all 201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mpleted final program document draf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esented to all counselors Oct 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esent to T&amp;L Committee Nov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990720" y="0"/>
            <a:ext cx="815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ere we are heading…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all 201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diness Survey completed by all district and Hellgate Elementary school counselo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inter 201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eliminary protocol for new students –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lco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roll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sessment of student abilit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ere we are heading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pring 201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esent plan to school counselors and principals for transitioning stud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nd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esent  to T&amp;L committe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ition Pla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-12 School Counseling Comprehensive Program Documen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stablish District Advisory Counc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– first mee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et annual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ig Picture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chool Year 2012-2013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-going training of all feeder school and district school counselors throughout the yea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pring 2013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roduction of comprehensive school counseling program to all staff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plementation of school counseling guidance curriculum in all schoo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gend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lcome and Introduc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imeline of K-12 Comprehensive Program Develop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have we don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we are doing now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re we are headed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adiness Surve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os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8960" y="11426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72314"/>
                </a:solidFill>
                <a:latin typeface="Gill Sans MT"/>
              </a:rPr>
              <a:t>The WHY – </a:t>
            </a:r>
            <a:r>
              <a:rPr b="0" lang="en-US" sz="4900" spc="-1" strike="noStrike">
                <a:solidFill>
                  <a:srgbClr val="572314"/>
                </a:solidFill>
                <a:latin typeface="Gill Sans MT"/>
              </a:rPr>
              <a:t>our guiding question…..</a:t>
            </a:r>
            <a:endParaRPr b="0" lang="en-US" sz="4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142640" y="3352680"/>
            <a:ext cx="7497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How are students different by what we do?”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unselor Leadership Team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Aaron Shattuck – Sentinel High Schoo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Angela Opitz – Rattlesnake Elementary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Bonnie Fergerson – Willard Alternative High 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chool Program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Catie Cook – Hellgate Elementary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Christine Kolczak – Hellgate High Schoo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Erica Zins – Russell/Lewis &amp; Clark Elementary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Katie Boynton – Hellgate High Schoo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Marolane Stevenson – Big Sky High Schoo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Michelle Stearns – Porter Middle Schoo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Mike Perry – Hawthorne Elementary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95280" y="198108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72314"/>
                </a:solidFill>
                <a:latin typeface="Gill Sans MT"/>
              </a:rPr>
              <a:t>What is a Comprehensive School Counseling Program?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434960" y="152280"/>
            <a:ext cx="74995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MCPS School Counseling Progra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 school counseling program is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omprehensive in scope, preventive in design, and developmental in natur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.  The MCPS School Counseling Program reflects a comprehensive approach that begins with a foundation, upon which delivery, management, and accountability systems are integrated.  It is designed to enable all students to receive program benefits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omprehensive in Scop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 comprehensive school counseling program focuses on what all students, from kindergarten through 12th grade, should know, understand, and be able to do in three domains of student development: academic, career, and personal/social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reventive in Desig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 purpose of the school counseling program is to impart specific skills and learning opportunities in a proactive, preventive manner, ensuring all students can achieve school success through academic, career, and personal/social development experiences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evelopmental in Natu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CPS’ School Counseling Program is designed to meet the needs of students throughout various developmental stage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990720" y="0"/>
            <a:ext cx="815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at we have done…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371240" y="1218960"/>
            <a:ext cx="7497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inter 2010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ll school counselors assess their dutie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chool Counseling Leadership Team built background knowledge of American School Counseling Association’s,  ASCA, national mod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pring 2011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uilt Found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veloped Mission, Beliefs, Philosophy, and Standard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rought all school counselors in the district together to share and build sup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at we have done…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59984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ummer 201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ded Hellgate Elementary Counselor to Leadership Tea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veloped Learning Targets for grades K-12 in all 9 Standar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iki Boot cam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veloped outline for final docu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veloped timeline for next step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2T20:10:03Z</dcterms:created>
  <dc:creator>eazins</dc:creator>
  <dc:description/>
  <dc:language>en-US</dc:language>
  <cp:lastModifiedBy>eazins</cp:lastModifiedBy>
  <dcterms:modified xsi:type="dcterms:W3CDTF">2011-10-25T17:37:01Z</dcterms:modified>
  <cp:revision>24</cp:revision>
  <dc:subject/>
  <dc:title>K-12 School Counseling Program Time-Line</dc:title>
</cp:coreProperties>
</file>